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705-58EE-4B4A-BB69-8ECC619A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D4F-092C-40B4-90BF-C7F18D7D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2E5-1740-4753-A97A-ECCE4D01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096-B7FC-4EB6-AC96-FA5E1FC5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8776-10C6-4007-BF06-4DEE7DC3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725E-3677-44F0-AADE-3F964FC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AA18-93AC-474F-8A24-DE00CD4D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92E1-B4CE-47B0-A975-2B561456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F1A-95C1-43B0-BC35-3D307BA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B46-1BF3-450C-81A4-D288D687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AFB7-80C2-42D9-AD91-C1E0B58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4B6-587B-484B-9992-F82389E7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C6E6-1553-4634-BD76-428F62E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7C9-9468-4BA9-9D79-48A5D2A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00CA-BA77-4E93-A2C5-433D0188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ED31-FAD1-4E9C-B8BD-AA8E156C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930B-E4C8-4700-A972-A281BA6A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28C-6859-48E8-B088-AD710626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F57-29B2-49F2-8951-809D9BC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FD2-0E58-456A-8958-48ED8B6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EEE-DAB9-434F-A567-C203CCBA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2B0-8C4A-41AB-ABED-EBB8EA8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A5E-1B1A-4F8D-BAFF-DAEAF9D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65D-297C-488F-B4A5-3EB20480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BCAC-1E37-4D3E-BFFC-BCE00BA92FAF}" type="slidenum">
              <a:rPr b="1" lang="ro-RO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C915-7892-416B-B22E-D9B9C5F48054}" type="slidenum">
              <a:rPr b="1" lang="ro-RO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ipuri de relatii </a:t>
            </a: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tre entitatii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-M, arce</a:t>
            </a: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, relatii barate, recursive, etc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4508640"/>
            <a:ext cx="41148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ALIZA C.R.U.D.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C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reate, 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R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etrieve, 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U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pdate, 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elete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rin analiza CRUD identificăm cerinţele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creare, regăsire, actualizare şi ştergere a datel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naliza CRUD ne ajută să observăm dac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m omis ceva din mo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m inclus în model ceva ce nu trebui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realizează analiza CRUD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87487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rmărim în interviurile cu clientul sau în descrierile activităţilor, cuvintele care exprimă cele 4 operaţii: creare, regăsire, actualizare, şterge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că există cerinţe pentru care nu există date, s-ar putea ca modelul să fie incompl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că există date asupra cărora nu se efectuează nici una dintre operaţiile CRUD, atunci acestea nu sunt necesare pentru aface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6420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ENTIFICATOR UN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dentificatorul unic poate fi format di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 valoare, sa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 combinaţie de val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şi permite utilizatorului să identifice în mod unic o anumită instanţ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tunci când un UID este alcătuit dintr-un singur atribut, se numeşte </a:t>
            </a:r>
            <a:r>
              <a:rPr b="0" lang="ro-RO" sz="2400" spc="-1" strike="noStrike">
                <a:solidFill>
                  <a:srgbClr val="99cc99"/>
                </a:solidFill>
                <a:latin typeface="Arial"/>
              </a:rPr>
              <a:t>simplu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că un UID este alcătuit dintr-o combinaţie de atribute, se numeşte </a:t>
            </a:r>
            <a:r>
              <a:rPr b="0" lang="ro-RO" sz="2400" spc="-1" strike="noStrike">
                <a:solidFill>
                  <a:srgbClr val="99cc99"/>
                </a:solidFill>
                <a:latin typeface="Arial"/>
              </a:rPr>
              <a:t>compus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n UID creat special pentru a numerota unic fiecare instanţă se numeşte </a:t>
            </a:r>
            <a:r>
              <a:rPr b="0" lang="ro-RO" sz="2400" spc="-1" strike="noStrike">
                <a:solidFill>
                  <a:srgbClr val="99cc99"/>
                </a:solidFill>
                <a:latin typeface="Arial"/>
              </a:rPr>
              <a:t>artificial.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38560" y="4653000"/>
            <a:ext cx="410544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504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8317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UID rezultat dintr-o relaţie barat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neori UID este o combinaţie dintre un atribut şi o relaţi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are este UID-ul entităţii ACCOU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 transferurile bancare se transmit întotdeauna atât contul clientului cât şi cel al bănci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tunci când un UID este o combinaţie între un atribut şi o relaţie barată putem considera că UID-ul este alcătuit dintr-un atribut şi UID-ul celeilalte entităţi din relaţi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241800" y="2708280"/>
            <a:ext cx="49305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cazul unei entităţi de intersecţie UID poate fi o combinaţie a UID ale entităţilor care se aflau iniţial în relaţia M:M. Aceasta se reprezintă în diagramă prin bararea relaţii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7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ot exista mai mulţi U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nul este ales ca UID primar (ex. student ID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eilalţi UID sunt numiţi secundar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 exemplul alăturat prima entitate are un UID secundar, a doua entitate are doi: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badge number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, identificator unic secundar simplu si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first name, last name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, identificator unic secundar compu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022800" y="765000"/>
            <a:ext cx="25815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Normalizarea se referă la procesul de creare a unei structuri relaţionale eficiente, flexibile care aşează fiecare dată într-un singur loc, care este şi cel mai potrivit loc, astfel încât operaţiile de adăugare, modificare, ştergere să se facă într-un singur tab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Un astfel de model va respect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LEXIBILITATEA DATE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tele vor fi pastrate în locul cel mai bun şi vor putea fi vizualizate în diverse felur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NTEGRITATEA DATE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Normalizarea asigură integritatea datelor în operaţii de ştergere, adăugare, actualiza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FICIENŢ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Nu vor exista date redundante. Se va face economie de spaţi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ZOLVAREA REL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LOR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NY TO MA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 vedere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implementării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zice a modelului conceptual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, este important ca relaţiile 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to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să fie rezolv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r-o rel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 M:M exist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l pu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un atribut care descrie rel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â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d a treia entitate, numit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ntitate de intersec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, se creaz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 loc pentru acel atrib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MA FORMA DE 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UN ATRIBUT NU POATE  AVEA VALORI CARE SE REPET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116000" y="3141720"/>
            <a:ext cx="6840720" cy="12952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03160" y="765000"/>
            <a:ext cx="55692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rciţi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nalizaţi entităţile de mai jos şi decideţi dacă respectă prima formă de normaliza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77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 A II-a DE 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ORICE ATRIBUT CE NU E UID SĂ DEPINDĂ DE ÎNTREGUL U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Se aplică în mod special entităţilor care au un UID compus din mai multe atribute sau dintr-un attribut şi o relaţ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16000" y="2852640"/>
            <a:ext cx="6048360" cy="11527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4968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cest exemplu respecta forma 2 de normaliza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acest ERD, bank_location depinde numai de bancă, nu şi de contul persoanei şi astfel încalcă Forma de Normalizare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05240" y="2421000"/>
            <a:ext cx="3903840" cy="99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851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00"/>
                </a:solidFill>
                <a:latin typeface="Arial"/>
              </a:rPr>
              <a:t>Durat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depinde numai de SO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00"/>
                </a:solidFill>
                <a:latin typeface="Arial"/>
              </a:rPr>
              <a:t>Event_date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depinde numai de eveni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756400" y="2500200"/>
            <a:ext cx="319860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 A III-a DE 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666699"/>
                </a:solidFill>
                <a:latin typeface="Arial"/>
              </a:rPr>
              <a:t>UN ATRIBUT CE NU E UID NU TREBUIE SĂ DEPINDĂ DE ALT ATRIBUT NON-UI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16000" y="3213000"/>
            <a:ext cx="7488360" cy="11527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1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acest exemplu, </a:t>
            </a:r>
            <a:r>
              <a:rPr b="0" lang="ro-RO" sz="2800" spc="-1" strike="noStrike">
                <a:solidFill>
                  <a:srgbClr val="33cccc"/>
                </a:solidFill>
                <a:latin typeface="Arial"/>
              </a:rPr>
              <a:t>store adress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depinde de </a:t>
            </a:r>
            <a:r>
              <a:rPr b="0" lang="ro-RO" sz="2800" spc="-1" strike="noStrike">
                <a:solidFill>
                  <a:srgbClr val="33cccc"/>
                </a:solidFill>
                <a:latin typeface="Arial"/>
              </a:rPr>
              <a:t>store name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oluţia acestei probleme este să creăm o nouă entitate, STORE, care va conţine cele două atribu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093080" y="2308320"/>
            <a:ext cx="1757160" cy="19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5651640" y="5067360"/>
            <a:ext cx="3419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82520" y="2674800"/>
            <a:ext cx="2514960" cy="381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cccc"/>
                </a:solidFill>
                <a:latin typeface="Arial"/>
              </a:rPr>
              <a:t>state flower</a:t>
            </a:r>
            <a:br>
              <a:rPr sz="2000"/>
            </a:b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depinde de</a:t>
            </a:r>
            <a:br>
              <a:rPr sz="2000"/>
            </a:br>
            <a:r>
              <a:rPr b="1" lang="ro-RO" sz="2000" spc="-1" strike="noStrike">
                <a:solidFill>
                  <a:srgbClr val="33cccc"/>
                </a:solidFill>
                <a:latin typeface="Arial"/>
              </a:rPr>
              <a:t>state</a:t>
            </a:r>
            <a:br>
              <a:rPr sz="2000"/>
            </a:b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şi nu de oraş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Soluţia este să creăm o nouă entitate STATE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113360" y="2349360"/>
            <a:ext cx="3267000" cy="43434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9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207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Orice afacere are restricţii ce pot fi aplicate valorilor unor atribute sau asupra relaţiilor dintre entităţi. Acestea se numesc CONSTRÂNGER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RCele sunt un mod de a reprezenta relaţiile mutual exclusiv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pentru fiecare instanţă numai una dintre relaţii este validă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crează entitatea de legatur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crează noile relaţ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dau nume acestor relaţ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Daca e cazul, se adaugă atribute în entitatea de legătur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crează un UID pentru entitatea de intersecţi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e un panou publicitar pot aparea la un moment dat ori un film, ori o reclama, ori un anunţ publ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5429160" y="2349360"/>
            <a:ext cx="37148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iecare eveniment se poate desfăşura fie într-un mediu privat fie într-un mediu publ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629320" y="2421000"/>
            <a:ext cx="309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6480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rcele pot fi modelate şi c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ubtipuri şi supertipur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Când se doreşte să se reprezinte o clasificare se folosesc subtipuri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olsim arce atunci când dor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ă reprezentăm relaţiile mu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xclusive dintre entităţ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012000" y="2543040"/>
            <a:ext cx="309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ERARHII, RELAT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viaţa de zi cu zi întâlnim adesea modele organizate în ierarhii cum ar f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cheme organizaţional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reprezentarea unor structuri fizic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rbori genealogi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E IERARHIC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332000" y="2432160"/>
            <a:ext cx="54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 organizaţ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58006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 IERARHIC D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089000" y="2349360"/>
            <a:ext cx="62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 IERARHIC D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484000" y="2361960"/>
            <a:ext cx="6659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UID al camerei este id-ul camere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Camera este situată în apartament (SUIT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care se află la un anumit etaj (FLOO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care se află în clădire (BUILD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UID-ul apartamentului dintr-un hotel este format d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ID-ul etajului şi ID-ul apartamentului din cadrul etajulu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ID-ul unui sir de entităţi ierarhice se poate propaga prin relaţii multiple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17049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LAŢII RECURS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O relaţie recursivă este o relaţie între o entitate şi ea însăş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emplu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angajat (EMPLOYEE) poate fi condus de unul şi numai unul dintre angajaţi (EMPLOY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angajat (EMPLOYEE) poate fi şeful (managerul) unuia sau mai mulţi angajaţi (EMPLOY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084720" y="3068640"/>
            <a:ext cx="2848320" cy="2200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755640" y="2421000"/>
            <a:ext cx="5184720" cy="9367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614760" y="692280"/>
            <a:ext cx="4905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5904000" cy="44276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laţie recursivă Many to M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236232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entru o fabrică de automobile putem considera: părti elementare, componente şi produ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 astfel de situaţie poate fi modelată astf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componentă poate fi o parte a uneia sau mai multor compon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componentă poate fi făcută din una sau mai multe compon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24004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FARSITUL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PRIMEI ZILE DE CU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7487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8459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4963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8388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6694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8:23:08Z</dcterms:created>
  <dc:creator>Laura</dc:creator>
  <dc:description/>
  <dc:language>en-US</dc:language>
  <cp:lastModifiedBy>Mihaela</cp:lastModifiedBy>
  <dcterms:modified xsi:type="dcterms:W3CDTF">2014-10-06T16:03:35Z</dcterms:modified>
  <cp:revision>48</cp:revision>
  <dc:subject/>
  <dc:title>ORACLE  - ZIUA 1</dc:title>
</cp:coreProperties>
</file>